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49A-2150-43EE-9408-B319CAA6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21C-91BD-4FF5-B872-F4DE0A25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CD8-2262-4DE9-9C31-A87BEAB3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2FB-938F-4B6F-9ED4-C01D4035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DBBB-5FB7-403C-A62F-457F8266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4B8-233A-40D8-94F5-BA6F561D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A3C1-37C3-42FB-BC9D-29C59979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49B-EA4E-454B-B92B-739FF263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7B8A-A253-49C6-8E7A-1E32EE39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5E5-EAC5-42BE-93AC-C1146D4E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6352-D269-432A-841B-86DA815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DFD-8CFA-4F75-85A9-BA797908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0047-5389-4D9E-AB11-D6D3900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C011-F008-4527-83B8-BB116937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1BB-8127-4828-91D7-8AD3E6BA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F997-C2C3-46D0-9BA4-5D305D64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3CAE-EBCC-4AF3-B728-F08146F8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EB4-CFF1-4815-8E2A-265B5944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DC4-29A3-4762-A21B-E67322B3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AAB-DB60-4DB8-84EC-388F8B80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03B-A645-4FA1-AD52-E943BCBA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452-E6A6-46E4-9767-2E82A32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AE3-EA67-4550-B5C4-91867EB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0ED-41A8-4690-90F6-55CF2042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455-8C1B-46A4-814D-2FCFCB7A631F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EDB9-621C-4668-8964-7061614E0CC2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jones2@eiu.ed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ducation.illinoisstate.edu/casei/ela/" TargetMode="External"/><Relationship Id="rId2" Type="http://schemas.openxmlformats.org/officeDocument/2006/relationships/hyperlink" Target="http://education.illinoisstate.edu/casei/ela/" TargetMode="External"/><Relationship Id="rId3" Type="http://schemas.openxmlformats.org/officeDocument/2006/relationships/hyperlink" Target="http://learningprogressions.tctl.org/" TargetMode="External"/><Relationship Id="rId4" Type="http://schemas.openxmlformats.org/officeDocument/2006/relationships/hyperlink" Target="http://learningprogressions.tctl.org/" TargetMode="External"/><Relationship Id="rId5" Type="http://schemas.openxmlformats.org/officeDocument/2006/relationships/hyperlink" Target="http://www.isbe.net/common_core/htmls/resources.htm" TargetMode="External"/><Relationship Id="rId6" Type="http://schemas.openxmlformats.org/officeDocument/2006/relationships/hyperlink" Target="http://www.isbe.net/common_core/htmls/resources.htm" TargetMode="External"/><Relationship Id="rId7" Type="http://schemas.openxmlformats.org/officeDocument/2006/relationships/hyperlink" Target="http://www.ilclassroomsinaction.org/ela-k-2-equip.html" TargetMode="External"/><Relationship Id="rId8" Type="http://schemas.openxmlformats.org/officeDocument/2006/relationships/hyperlink" Target="http://www.ilclassroomsinaction.org/ela-3-12-equip.html" TargetMode="External"/><Relationship Id="rId9" Type="http://schemas.openxmlformats.org/officeDocument/2006/relationships/hyperlink" Target="http://www.ilclassroomsinaction.org/ela-3-12-equip.html" TargetMode="External"/><Relationship Id="rId10" Type="http://schemas.openxmlformats.org/officeDocument/2006/relationships/hyperlink" Target="http://www.isbe.net/common_core/pdf/elawebsites.pdf" TargetMode="External"/><Relationship Id="rId11" Type="http://schemas.openxmlformats.org/officeDocument/2006/relationships/hyperlink" Target="http://www.isbe.net/common_core/pdf/elawebsites.pdf" TargetMode="External"/><Relationship Id="rId12" Type="http://schemas.openxmlformats.org/officeDocument/2006/relationships/hyperlink" Target="http://www.isbe.net/common_core/htmls/news.htm" TargetMode="External"/><Relationship Id="rId13" Type="http://schemas.openxmlformats.org/officeDocument/2006/relationships/hyperlink" Target="http://www.isbe.net/common_core/htmls/news.htm" TargetMode="External"/><Relationship Id="rId14" Type="http://schemas.openxmlformats.org/officeDocument/2006/relationships/hyperlink" Target="http://www.isbe.net/common_core/htmls/news.htm" TargetMode="External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rcconline.org/sites/parcc/files/PARCCMCFELALiteracyAugust2012_FINAL.pdf" TargetMode="External"/><Relationship Id="rId2" Type="http://schemas.openxmlformats.org/officeDocument/2006/relationships/hyperlink" Target="http://practice.parcc.testnav.com/" TargetMode="External"/><Relationship Id="rId3" Type="http://schemas.openxmlformats.org/officeDocument/2006/relationships/hyperlink" Target="http://practice.parcc.testnav.com/" TargetMode="External"/><Relationship Id="rId4" Type="http://schemas.openxmlformats.org/officeDocument/2006/relationships/hyperlink" Target="http://www.parcconline.org/sites/parcc/files/PARCCSampleofWritingForms.pdf" TargetMode="External"/><Relationship Id="rId5" Type="http://schemas.openxmlformats.org/officeDocument/2006/relationships/hyperlink" Target="http://www.parcconline.org/samples/english-language-artsliteracy/grade-3-generic-rubrics" TargetMode="Externa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engageny.org/resource/common-core-toolkit" TargetMode="External"/><Relationship Id="rId2" Type="http://schemas.openxmlformats.org/officeDocument/2006/relationships/hyperlink" Target="http://njcore.org/" TargetMode="External"/><Relationship Id="rId3" Type="http://schemas.openxmlformats.org/officeDocument/2006/relationships/hyperlink" Target="http://njcore.org/" TargetMode="External"/><Relationship Id="rId4" Type="http://schemas.openxmlformats.org/officeDocument/2006/relationships/hyperlink" Target="http://videolibrary.louisianabelieves.com/" TargetMode="External"/><Relationship Id="rId5" Type="http://schemas.openxmlformats.org/officeDocument/2006/relationships/hyperlink" Target="http://videolibrary.louisianabelieves.com/" TargetMode="External"/><Relationship Id="rId6" Type="http://schemas.openxmlformats.org/officeDocument/2006/relationships/hyperlink" Target="http://videolibrary.louisianabelieves.com/" TargetMode="External"/><Relationship Id="rId7" Type="http://schemas.openxmlformats.org/officeDocument/2006/relationships/hyperlink" Target="http://education.illinoisstate.edu/casei/ela/louisiana/" TargetMode="External"/><Relationship Id="rId8" Type="http://schemas.openxmlformats.org/officeDocument/2006/relationships/hyperlink" Target="http://www.louisianabelieves.com/resources/library/k-12-ela-year-long-planning" TargetMode="External"/><Relationship Id="rId9" Type="http://schemas.openxmlformats.org/officeDocument/2006/relationships/hyperlink" Target="http://www.louisianabelieves.com/resources/library/k-12-ela-year-long-planning" TargetMode="External"/><Relationship Id="rId10" Type="http://schemas.openxmlformats.org/officeDocument/2006/relationships/hyperlink" Target="http://commoncore.tcoe.org/home" TargetMode="External"/><Relationship Id="rId11" Type="http://schemas.openxmlformats.org/officeDocument/2006/relationships/hyperlink" Target="http://commoncore.tcoe.org/home" TargetMode="External"/><Relationship Id="rId12" Type="http://schemas.openxmlformats.org/officeDocument/2006/relationships/hyperlink" Target="http://commoncore.tcoe.org/home" TargetMode="External"/><Relationship Id="rId13" Type="http://schemas.openxmlformats.org/officeDocument/2006/relationships/hyperlink" Target="http://www.stancoe.org/SCOE/iss/common_core/workshop_downloads/Dive/dive.htm" TargetMode="External"/><Relationship Id="rId14" Type="http://schemas.openxmlformats.org/officeDocument/2006/relationships/hyperlink" Target="http://www.stancoe.org/SCOE/iss/common_core/workshop_downloads/Dive/dive.htm" TargetMode="External"/><Relationship Id="rId15" Type="http://schemas.openxmlformats.org/officeDocument/2006/relationships/hyperlink" Target="http://www.livebinders.com/play/play?id=944960" TargetMode="External"/><Relationship Id="rId16" Type="http://schemas.openxmlformats.org/officeDocument/2006/relationships/hyperlink" Target="http://www.livebinders.com/play/play?id=944960" TargetMode="External"/><Relationship Id="rId17" Type="http://schemas.openxmlformats.org/officeDocument/2006/relationships/hyperlink" Target="http://www.santeesd.net/cms/lib/CA01000468/Centricity/Domain/871/Building%20the%20Foundation.pdf" TargetMode="External"/><Relationship Id="rId18" Type="http://schemas.openxmlformats.org/officeDocument/2006/relationships/hyperlink" Target="http://www.santeesd.net/cms/lib/CA01000468/Centricity/Domain/871/Building%20the%20Foundation.pdf" TargetMode="External"/><Relationship Id="rId19" Type="http://schemas.openxmlformats.org/officeDocument/2006/relationships/hyperlink" Target="https://sites.google.com/a/valverde.edu/common-core-resources/" TargetMode="External"/><Relationship Id="rId20" Type="http://schemas.openxmlformats.org/officeDocument/2006/relationships/hyperlink" Target="https://sites.google.com/a/valverde.edu/common-core-resources/" TargetMode="External"/><Relationship Id="rId21" Type="http://schemas.openxmlformats.org/officeDocument/2006/relationships/image" Target="../media/image3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teachingchannel.org/videos?categories=topics_common-core" TargetMode="External"/><Relationship Id="rId2" Type="http://schemas.openxmlformats.org/officeDocument/2006/relationships/hyperlink" Target="https://www.teachingchannel.org/videos?categories=topics_common-core" TargetMode="External"/><Relationship Id="rId3" Type="http://schemas.openxmlformats.org/officeDocument/2006/relationships/hyperlink" Target="http://achievethecore.org/" TargetMode="External"/><Relationship Id="rId4" Type="http://schemas.openxmlformats.org/officeDocument/2006/relationships/hyperlink" Target="https://www.oercommons.org/realizing-the-promise-of-the-common-core-together" TargetMode="External"/><Relationship Id="rId5" Type="http://schemas.openxmlformats.org/officeDocument/2006/relationships/hyperlink" Target="https://www.oercommons.org/realizing-the-promise-of-the-common-core-together" TargetMode="External"/><Relationship Id="rId6" Type="http://schemas.openxmlformats.org/officeDocument/2006/relationships/hyperlink" Target="http://www.ccsso.org/Documents/2013/CCSSImplementation_Tools_Resources_10_2013.pdf.pdf" TargetMode="External"/><Relationship Id="rId7" Type="http://schemas.openxmlformats.org/officeDocument/2006/relationships/hyperlink" Target="http://www.ccsso.org/Documents/2013/CCSSImplementation_Tools_Resources_10_2013.pdf.pdf" TargetMode="External"/><Relationship Id="rId8" Type="http://schemas.openxmlformats.org/officeDocument/2006/relationships/hyperlink" Target="http://www.naesp.org/common-core-state-standards-resources" TargetMode="External"/><Relationship Id="rId9" Type="http://schemas.openxmlformats.org/officeDocument/2006/relationships/hyperlink" Target="http://www.naesp.org/common-core-state-standards-resources" TargetMode="External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23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on Core Resources to Support the Implementation of the               “New Illinois (ELA)Learning Standards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9000"/>
                </a:solidFill>
                <a:latin typeface="Verdana"/>
              </a:rPr>
              <a:t>Melissa Jones-Bromenshenk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mljones2@eiu.edu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9000"/>
                </a:solidFill>
                <a:latin typeface="Verdana"/>
              </a:rPr>
              <a:t>Eastern Illinois Univers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our o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A Shift Kits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://education.illinoisstate.edu/casei/ela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/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ession Tool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http://learningprogressions.tctl.org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/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eaching and Learning Strategies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6"/>
              </a:rPr>
              <a:t>www.isbe.net/common_core/htmls/resources.htm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A Equip Rubrics (K-2) and (3-12)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7"/>
              </a:rPr>
              <a:t>http://www.ilclassroomsinaction.org/ela-k-2-equip.html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9"/>
              </a:rPr>
              <a:t>www.ilclassroomsinaction.org/ela-3-12-equip.htm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Resources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1"/>
              </a:rPr>
              <a:t>www.isbe.net/common_core/pdf/elawebsites.pdf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Capture the Core Newsletter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2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3"/>
              </a:rPr>
              <a:t>www.isbe.net/common_core/htmls/ne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4"/>
              </a:rPr>
              <a:t>ws.ht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5"/>
          <a:stretch/>
        </p:blipFill>
        <p:spPr>
          <a:xfrm>
            <a:off x="3124080" y="838080"/>
            <a:ext cx="51818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C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el Framework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://www.parcconline.org/sites/parcc/files/PARCCMCFELALiteracyAugust2012_FINAL.pd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actice Test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http://practice.parcc.testnav.com/#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vigation Tutorial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http://practice.parcc.testnav.com/#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riting Form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http://www.parcconline.org/sites/parcc/files/PARCCSampleofWritingForms.pd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riting Rubric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http://www.parcconline.org/samples/english-language-artsliteracy/grade-3-generic-rubric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6"/>
          <a:stretch/>
        </p:blipFill>
        <p:spPr>
          <a:xfrm>
            <a:off x="1049400" y="838080"/>
            <a:ext cx="497052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States’ Re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ew Y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EngageNY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s://www.engageny.org/resource/common-core-toolkit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ew Jerse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Educator Research Exchange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http://njcore.org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/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ouisian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Videos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http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://videolibrary.louisianabelieves.com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6"/>
              </a:rPr>
              <a:t>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Year at a Glance (sample from LA)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7"/>
              </a:rPr>
              <a:t>http://education.illinoisstate.edu/casei/ela/louisiana/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Sample Lessons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9"/>
              </a:rPr>
              <a:t>www.louisianabelieves.com/resources/library/k-12-ela-year-long-planning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Californ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Common Core Connect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0"/>
              </a:rPr>
              <a:t>http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1"/>
              </a:rPr>
              <a:t>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2"/>
              </a:rPr>
              <a:t>commoncore.tcoe.org/home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Deep Dive Workshop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3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4"/>
              </a:rPr>
              <a:t>www.stancoe.org/SCOE/iss/common_core/workshop_downloads/Dive/dive.htm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LiveBinder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5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6"/>
              </a:rPr>
              <a:t>www.livebinders.com/play/play?id=944960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Subskills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7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8"/>
              </a:rPr>
              <a:t>www.santeesd.net/cms/lib/CA01000468/Centricity/Domain/871/Building%20the%20Foundation.pdf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Common Core Central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9"/>
              </a:rPr>
              <a:t>https://sites.google.com/a/valverde.edu/common-core-resources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20"/>
              </a:rPr>
              <a:t>/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1"/>
          <a:stretch/>
        </p:blipFill>
        <p:spPr>
          <a:xfrm>
            <a:off x="6858000" y="76320"/>
            <a:ext cx="209556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57400" y="676440"/>
            <a:ext cx="6076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deos and Additional S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4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eaching Channel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s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www.teachingchannel.org/videos?categories=topics_comm  on-core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Achieve the Core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http://achievethecore.org/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OER Commons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https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www.oercommons.org/realizing-the-promise-of-the-common-core-together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SSO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7"/>
              </a:rPr>
              <a:t>www.ccsso.org/Documents/2013/CCSSImplementation_Tools_Resources_10_2013.pdf.pdf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AESP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9"/>
              </a:rPr>
              <a:t>www.naesp.org/common-core-state-standards-resources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ASSP http://www.achieve.org/files/RevisedSecondaryActionBrief_Final_Feb.pdf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CTE http://www.ncte.org/standards/common-core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0"/>
          <a:stretch/>
        </p:blipFill>
        <p:spPr>
          <a:xfrm>
            <a:off x="0" y="-76320"/>
            <a:ext cx="19051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463920" cy="5486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y Conn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e and NG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s for Common C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re Tal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CL4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600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oks and Arti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3520" y="137160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ers, K. &amp; Probst, R.E. (2013).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otice and note:  Strategies for close read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 Portsmouth, NH:  Heineman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ke, J. (2013).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he Common Core companion:  The standards decoded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ousand Oaks, CA: Corwin Literacy. (for grades K-5, 6-8, 9-1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renger, M. (2013).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eaching the critical vocabulary of the common core: 55 words that make or break student understanding.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exandria, VA: ASC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362320" y="5334120"/>
            <a:ext cx="3733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09680" y="676440"/>
            <a:ext cx="65534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itional Ideas/Sugg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20271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8:30:55Z</dcterms:created>
  <dc:creator>EIU</dc:creator>
  <dc:description/>
  <dc:language>en-US</dc:language>
  <cp:lastModifiedBy>EIU</cp:lastModifiedBy>
  <dcterms:modified xsi:type="dcterms:W3CDTF">2014-09-17T21:29:00Z</dcterms:modified>
  <cp:revision>18</cp:revision>
  <dc:subject/>
  <dc:title>Common Core Resources to Support the Implementation of the               “New Illinois (ELA)Learning Standards”</dc:title>
</cp:coreProperties>
</file>